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77000" cy="380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878-E2E1-4911-B18B-19634833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339840"/>
            <a:ext cx="5505480" cy="6350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101600"/>
            <a:ext cx="550548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2295720"/>
            <a:ext cx="550548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4A19-54A7-4421-964C-9240AC31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339840"/>
            <a:ext cx="5505480" cy="6350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101600"/>
            <a:ext cx="268632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06240" y="1101600"/>
            <a:ext cx="268632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2295720"/>
            <a:ext cx="268632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06240" y="2295720"/>
            <a:ext cx="268632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AF1B-1F38-440E-8049-1381C5D8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339840"/>
            <a:ext cx="5505480" cy="6350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101600"/>
            <a:ext cx="177264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46840" y="1101600"/>
            <a:ext cx="177264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08760" y="1101600"/>
            <a:ext cx="177264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2295720"/>
            <a:ext cx="177264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46840" y="2295720"/>
            <a:ext cx="177264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08760" y="2295720"/>
            <a:ext cx="177264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7865-1E00-4150-BADE-88C6D897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339840"/>
            <a:ext cx="5505480" cy="6350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101600"/>
            <a:ext cx="55054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0259-D85E-4C9D-BB66-24771484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339840"/>
            <a:ext cx="5505480" cy="6350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101600"/>
            <a:ext cx="5505480" cy="22860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0B7C-14DE-4375-8003-05275805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339840"/>
            <a:ext cx="5505480" cy="6350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101600"/>
            <a:ext cx="2686320" cy="22860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06240" y="1101600"/>
            <a:ext cx="2686320" cy="22860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8F02-478B-43F8-B8A5-DA63DDAE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339840"/>
            <a:ext cx="5505480" cy="6350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B0D3-7642-4D09-B929-4C5388CA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339840"/>
            <a:ext cx="550548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1690-D026-4DA3-BD86-EEEA9C29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339840"/>
            <a:ext cx="5505480" cy="6350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101600"/>
            <a:ext cx="268632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06240" y="1101600"/>
            <a:ext cx="2686320" cy="22860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2295720"/>
            <a:ext cx="268632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A8DB-625E-4194-938D-4A4EE7AD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339840"/>
            <a:ext cx="5505480" cy="6350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101600"/>
            <a:ext cx="2686320" cy="22860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06240" y="1101600"/>
            <a:ext cx="268632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06240" y="2295720"/>
            <a:ext cx="268632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2D8E-3DAC-463E-B612-0CD3F712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339840"/>
            <a:ext cx="5505480" cy="6350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101600"/>
            <a:ext cx="268632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06240" y="1101600"/>
            <a:ext cx="268632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2295720"/>
            <a:ext cx="550548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348-070C-498D-90EB-AC2AB065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339840"/>
            <a:ext cx="5505480" cy="6350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101600"/>
            <a:ext cx="5505480" cy="22860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 fontScale="84000"/>
          </a:bodyPr>
          <a:p>
            <a:pPr marL="191880" indent="-1918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-159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640080" indent="-12816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895680" indent="-12780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4" marL="1152000" indent="-12780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5" marL="1152000" indent="-12780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6" marL="1152000" indent="-12780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3470040"/>
            <a:ext cx="1349640" cy="2538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12920" y="3470040"/>
            <a:ext cx="2051280" cy="2538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641840" y="3470040"/>
            <a:ext cx="1349280" cy="2538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7FACFA81-69E1-438F-9631-160EFCE195C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35000" y="123840"/>
            <a:ext cx="3948120" cy="2093760"/>
            <a:chOff x="1035000" y="123840"/>
            <a:chExt cx="3948120" cy="2093760"/>
          </a:xfrm>
        </p:grpSpPr>
        <p:sp>
          <p:nvSpPr>
            <p:cNvPr id="42" name=""/>
            <p:cNvSpPr/>
            <p:nvPr/>
          </p:nvSpPr>
          <p:spPr>
            <a:xfrm>
              <a:off x="1079640" y="468360"/>
              <a:ext cx="3813480" cy="19116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" rIns="1008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fo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9640" y="927720"/>
              <a:ext cx="1121400" cy="6890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" rIns="1008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Appl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gallery f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Transforma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Worlds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35000" y="1884960"/>
              <a:ext cx="3948120" cy="3326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" rIns="1008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teacher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39560" y="1195560"/>
              <a:ext cx="179280" cy="153000"/>
            </a:xfrm>
            <a:prstGeom prst="leftRightArrow">
              <a:avLst>
                <a:gd name="adj1" fmla="val 50000"/>
                <a:gd name="adj2" fmla="val 2332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611160" y="1195560"/>
              <a:ext cx="179280" cy="153000"/>
            </a:xfrm>
            <a:prstGeom prst="leftRightArrow">
              <a:avLst>
                <a:gd name="adj1" fmla="val 50000"/>
                <a:gd name="adj2" fmla="val 2332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28560" y="1655280"/>
              <a:ext cx="313560" cy="191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74600" y="1655280"/>
              <a:ext cx="313560" cy="191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220280" y="1655280"/>
              <a:ext cx="313560" cy="191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29600" y="123840"/>
              <a:ext cx="403560" cy="306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18200" y="698040"/>
              <a:ext cx="223920" cy="153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19240" y="736200"/>
              <a:ext cx="224280" cy="153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54920" y="698040"/>
              <a:ext cx="223920" cy="153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64200" y="927720"/>
              <a:ext cx="1121400" cy="6890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" rIns="1008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Appl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gallery f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Transforma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Worlds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16720" y="927720"/>
              <a:ext cx="1121400" cy="6890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" rIns="1008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Appl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gallery f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Transforma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Worlds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55600" y="2525760"/>
            <a:ext cx="5006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5040" bIns="5040" anchor="ctr">
            <a:noAutofit/>
          </a:bodyPr>
          <a:p>
            <a:pPr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The site will use a science museum metaphor. The casual visitor will be free to browse th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pplet Galleries at will  and spend as much or as little time at an exhibit as fancy takes th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On the other hand, a teacher may direct a student  to a particular exhibit for a chosen reas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Either way, we hope the learning will be entertaining with elements of surprise serendip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Behind the public galleries will be a more formal teacher support servi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For details,  click the button on the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08:12:20Z</dcterms:created>
  <dc:creator>School of Computing Science</dc:creator>
  <dc:description/>
  <dc:language>en-US</dc:language>
  <cp:lastModifiedBy>School of Computing Science</cp:lastModifiedBy>
  <dcterms:modified xsi:type="dcterms:W3CDTF">2003-09-29T09:08:41Z</dcterms:modified>
  <cp:revision>5</cp:revision>
  <dc:subject/>
  <dc:title>No Slide Title</dc:title>
</cp:coreProperties>
</file>