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B52-97C8-4960-9B16-1B462422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0DF-F487-4BC7-8324-0A07B54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E37-A083-4EE8-8DDD-3B7F063A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0F5-CE33-40BA-80C0-6B9E687A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3F2-80CE-4110-BBFD-82287FB8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F66-BB7E-4023-8545-9D14B0ED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BAD-8916-4061-9C42-B9A4A538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CAA-B707-474A-8046-F3A4F7D4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89E-8B6D-453C-88D2-3EA01A50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7EA-E0D3-4391-9575-B541120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E05-C390-4AAC-9B11-7BB1B78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137-8497-49A2-9388-CBD76D15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D737-B501-43CC-B5FA-F804A8B86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USH-PULLprofile/PROFILE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ush – pull web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4:49:27Z</dcterms:created>
  <dc:creator>ANTHONY13</dc:creator>
  <dc:description/>
  <dc:language>en-US</dc:language>
  <cp:lastModifiedBy>ANTHONY13</cp:lastModifiedBy>
  <dcterms:modified xsi:type="dcterms:W3CDTF">2007-01-03T14:52:20Z</dcterms:modified>
  <cp:revision>2</cp:revision>
  <dc:subject/>
  <dc:title>Slide 1</dc:title>
</cp:coreProperties>
</file>