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491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05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890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890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E8F0A-CFD8-4250-B619-56DF6F5AC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32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AFF-89C1-4D53-8C49-0F7D6EF2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89F-56E5-4C2F-BAC0-D2767F18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12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371-BFED-4298-A7A1-D00F48E2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92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736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92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736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4F0-1FFA-4B07-9FC3-8F04D0FC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941E-B2D3-4B59-9AA5-7B33D547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A783-7E9D-41D9-A6A7-5A81567F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ABED-126C-4772-9CDE-D588D4BD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B47-BAE4-46F9-8683-932DE8C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F0EC-849F-437F-98FB-BC416955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48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6754-C20A-431D-9139-FA4B2DC5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DE83-5B9D-4EF9-AC3B-A50EDCC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350-8F44-4F30-860E-D50FB5CA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CBE8-06A9-4116-8D3B-3AD69C6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F1F-27A7-45A5-96C2-464934BC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867A-B467-496A-BEA6-79D4E749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1F02-4DB9-46B7-8E21-B98F5055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192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192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6EE4-442B-4B59-8591-271D3E10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72D-1ECB-4C61-85A0-3635C1D1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C92-95F7-49FC-9FD2-A0BEE32A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C89-B85B-4D61-ACDC-53E1AE2F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48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19D-B3D8-467F-97B6-41771365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474-4321-4BD1-9A64-7D87A6A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12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A40-B9DC-4FBB-8E76-BBE9797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962-B6F1-4268-9235-85D5CF0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9052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052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1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052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0C5F5-E0E4-4FB2-B083-AC0AEF57FE37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54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052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14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052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DE004B-886C-4419-A0F3-31FDFEEC81F0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mproving file system performance using access pattern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133720"/>
            <a:ext cx="8229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or of Studies: Dr. Glenford M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ervisor: Prof. Richard Bor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0EC-5FF3-4AFE-BD04-01582F5815F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4520" y="324000"/>
            <a:ext cx="8169480" cy="66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Contd ...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(Detail study of Cao</a:t>
            </a:r>
            <a:r>
              <a:rPr b="0" lang="en-GB" sz="2400" spc="-1" strike="noStrike">
                <a:solidFill>
                  <a:srgbClr val="006633"/>
                </a:solidFill>
                <a:latin typeface="QWWQKH+CMR10"/>
                <a:ea typeface="QWWQKH+CMR10"/>
              </a:rPr>
              <a:t>’s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0160" y="971640"/>
            <a:ext cx="8350200" cy="57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wapping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o avoid unfairly penalising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lace holder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o avoid application acquiring more blocks than global LR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Guarantees it performs as well as LRU or be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Looked at access patterns individu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Replace the block whose next reference is farthest a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st Recently Abandoned (MRA) for looping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oretical Study of Caching and Prefetching in integrated fash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Only static prefetching was implemen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266-4F2C-4465-AF48-74B34A7C6A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9280" y="286920"/>
            <a:ext cx="869472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Problem in application-controlled caching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40000" y="1079280"/>
            <a:ext cx="4679640" cy="57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global LRU can result in the wrong file being selected for re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does not find the best allocation between the processes having different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rect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sequential file block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n the working-set file 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1120" y="2227320"/>
            <a:ext cx="399924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D3A-8D8F-47BD-B3C8-BF1571A983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1882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Proposed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Wo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8188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caching mechanism which uses file access patterns for global replacement and dynamic pref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patterns that we will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 patterns:- Only prefetch block will be c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ping access patterns:- Most Recently Abandoned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-set access patterns:- LRU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fetching will be used for Sequential and Looping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8D3-0265-410F-8A6D-30C0766C2B3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3680" y="212400"/>
            <a:ext cx="8177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ach access pattern will be represented by a manager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ur work will develop a strategy to maintain fair allocation of blocks dynamically between access patterns and prefetching which will guarantee a stable con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9080" y="6264360"/>
            <a:ext cx="4030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84200" y="2160720"/>
            <a:ext cx="3836880" cy="34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95B-6ED1-4E4F-A7B9-4D9A87C2CC6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6480" y="313920"/>
            <a:ext cx="8159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table Cond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4429080" y="6264360"/>
            <a:ext cx="3959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48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A10-6968-4922-AB07-919A009CD76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3680" y="107640"/>
            <a:ext cx="81770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imulation and Develop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8720" y="934560"/>
            <a:ext cx="84596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UNIX buffer cache is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propose to develop a test bed called Experimental File System (EF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s its own c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use directory structure to specify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also develop a simulation to investigate the caching mechanisms using file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idea is to simulate the environment and to look 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sing cache mi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lose we can get to the stabl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9080" y="6264360"/>
            <a:ext cx="3994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8BE-BC04-4528-9869-8A42017F29E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20840" y="252360"/>
            <a:ext cx="820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Kubiatowicz, J.; Bindel, D.; Chen, Y.; Eaton, S. C. P.; Geels, D.; OceanStore: an architecture for global-scale persistent storage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erson, T.; Dahlin, M.; Neefe, J.; Pat-terson, D.; Roselli, D. &amp; Wang, R. Serverless network file systems, 199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hemawat, S.; Gobioff, H. &amp; Leung, S. The Google file system, 200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i, V. S.; Druschel, P. &amp; Zwaenepoel, W. IO-Lite: a unified I/O buffering and caching system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o, P.; Felten, E. W.; Karlin, A. R. &amp; Li, K. A study of integrated prefetching and caching strategies, 199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ameldeen, A. R. &amp; Schneider, D. A. User-Controlled File Caching in Linux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o, P.; Felten, E. W. &amp; Li, K. Application-Controlled File Caching Policies, 199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E4D-7561-4E3B-A4F4-7F8C5C69F7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927520"/>
            <a:ext cx="8964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11600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FCE-EE53-4993-9D2E-8B5CEB350B11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3760" y="169920"/>
            <a:ext cx="82234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tline of this tal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7600" y="1079280"/>
            <a:ext cx="822312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tivation for the work: Network Memory Server(NM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 we need c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e Of The Art in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work done and thei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ed study of Pei Cao'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Solution: To improve cache performance by looking at file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a simulation and a test bed to explore caching mechanisms using file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111-E342-4C83-961A-B54D30C76EB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5920" y="204480"/>
            <a:ext cx="82296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30040" y="1260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age for heterogeneous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Cach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Memory Applications (LM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ging de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e.g Gigabit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BC9-0945-4D49-925E-316E0AF35A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-46080"/>
            <a:ext cx="8182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Why do we need caching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060560"/>
            <a:ext cx="81820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/O operations are not fast enough when compared to processing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 network software is not fast enough for network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ching could be used to improve the respons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lso aggregates multiple writes and reads, reduces the overall IO/network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tical Model of MdxN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hows that caching is important at client end and even more important in wireless environment [Gemikonakli et al, 2006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70E-275C-4507-A563-AE5783B1E4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8840" y="204480"/>
            <a:ext cx="82234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6520" y="1009800"/>
            <a:ext cx="822312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p, G.; Thakker, D. &amp; Silcott, D. The Design of a Storage Architecture for Mobile Heterogeneous Devices icns, IEEE Computer Society, 2007, 0, 4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p, G.; Thakkar, D. &amp; Silcott, D. Network Memory Servers: An idea whose time has come Multi-Service Networks (MSN), 20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 ANSS '06: Proceedings of the 39th annual Symposium on Simulation, IEEE Computer Society, 2006, 127-13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mikonakli, O.; Mapp, G.; Ever, E. &amp; Thakker, D. Modelling Network Memory Servers with Parallel Processors, Break-downs and Repairs ANSS '07: Proceedings of the 40th Annual Simulation Symposium, IEEE Computer Society, 2007, 11-2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486-5F22-4BCF-98B8-D9C9683054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8224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te Of the Art in Cach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1920" y="1069920"/>
            <a:ext cx="822456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ching has revolved around the idea of a working-set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ience has shown that Least Recently Used (LRU) algorithm works relatively well with general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RU is unsuitable for applications such as database and multimedia which are becoming more import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quential access patterns, no working set or Looping access patterns, size of the file is working s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us access patterns should be considered as part of cache management strate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5EB-D1F5-465E-A264-6C413FA29A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3680" y="-108000"/>
            <a:ext cx="8142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C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360" y="1260360"/>
            <a:ext cx="82249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920" y="90000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60000" y="826560"/>
            <a:ext cx="820908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Distributed fil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ceanst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kubiatowicz et al., 2000]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ed at caching to improve the response time and avail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rverless file system(xF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Anderson et al., 1995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xFS client outperforms one NFS client by benefiting from cooperative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ogle file syst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Ghemawat et al., 200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not caching sequential files, it showed performance gain for huge file that mostly reads and writes 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not looking at caching issues related to distributed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DF4-D0C6-466B-8211-5D9A95B79D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8640" y="0"/>
            <a:ext cx="8217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....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(previous research on caching)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0360" y="900000"/>
            <a:ext cx="8459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837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Using Controlled cache to enhance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r-Controlled File Caching in Linux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Alameldeen, 2000]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ing the amount of pages a file can occu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ing all pages of a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ing the per-file page replacement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all file reads are unaffected by the large sequential file 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wing users to set number of pages can lead to unstab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F9C-FA60-4165-AAA3-19DB656C5C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0840" y="204480"/>
            <a:ext cx="81691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Application-Controlled File Caching Polic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79640" y="1599840"/>
            <a:ext cx="39495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uthor [Cao et al.,1994]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user-level control over file cache replace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d a two-level cache management sche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Used variant of LRU as global algorith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450072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858-6608-4C47-8EA7-6B5631E457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