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8857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8632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0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886120" cy="37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885760" cy="37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9E4A0-C0C7-48A5-BB42-7666637FD0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43000" y="685800"/>
            <a:ext cx="45306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143000" y="685800"/>
            <a:ext cx="4511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143000" y="685800"/>
            <a:ext cx="4532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306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43000" y="685800"/>
            <a:ext cx="4546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143000" y="68580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43000" y="68580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43000" y="68580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43000" y="685800"/>
            <a:ext cx="4491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143000" y="685800"/>
            <a:ext cx="4559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1D5D-3493-413A-AE5F-60AF1065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439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1439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7CC7-2B6E-450B-8B41-9FCA86B2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0320" y="15998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0320" y="39650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1338-6752-4D98-916F-531CBAF5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2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0840" y="1599840"/>
            <a:ext cx="2622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4840" y="1599840"/>
            <a:ext cx="2622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22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0840" y="3965040"/>
            <a:ext cx="2622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4840" y="3965040"/>
            <a:ext cx="2622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312E-979B-45F6-91B4-3313CB43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028D-C13C-4B82-9FFF-ABE7C434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439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3F1A-6D3E-4EED-9DA0-2C911453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439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6BB5-2C8D-4E59-B1F6-595943C7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40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0320" y="1599840"/>
            <a:ext cx="39740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C0EA-0C98-4539-90A6-83516076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CC10-04B2-4B31-8BBC-4DB4B9B8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14392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C865-70C3-4800-892C-E725ADE5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0320" y="1599840"/>
            <a:ext cx="39740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224A-9329-4FAB-9DFB-811D1D55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439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ACEF-C220-4E72-851F-24F4DD97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40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0320" y="15998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0320" y="39650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5C78-005C-4502-8DE6-7CE1A6B8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0320" y="15998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1439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3B1B-E4C9-487D-AB52-6C3FE6AB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439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1439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9C6D-EFF7-48D7-8456-17A0979A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0320" y="15998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0320" y="39650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863F-E50A-430F-8EC6-922DFFE0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2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0840" y="1599840"/>
            <a:ext cx="2622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4840" y="1599840"/>
            <a:ext cx="2622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22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0840" y="3965040"/>
            <a:ext cx="2622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4840" y="3965040"/>
            <a:ext cx="2622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8F3F-C3E5-4B0D-9FBB-363A529D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439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7113-6AC4-4E67-BD5C-8C83F89F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40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0320" y="1599840"/>
            <a:ext cx="39740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305E-C3A6-4224-AD62-DF34864F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BFDA-7F4D-455B-B337-08DECC0D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14392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A3CB-FC2B-4A81-9827-F1178FB9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1599840"/>
            <a:ext cx="39740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6A06-F973-4A2B-9269-AD95ACD2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40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15998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0320" y="39650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18FA-C9A1-47E0-ABC4-B5D69A6C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0320" y="15998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1439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44D2-06A4-4309-AF7E-ED72C14F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439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7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7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36720" indent="-325440">
              <a:lnSpc>
                <a:spcPct val="7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-290520">
              <a:lnSpc>
                <a:spcPct val="7000"/>
              </a:lnSpc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325440">
              <a:lnSpc>
                <a:spcPct val="7000"/>
              </a:lnSpc>
              <a:spcBef>
                <a:spcPts val="751"/>
              </a:spcBef>
              <a:buClr>
                <a:srgbClr val="3b812f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325440">
              <a:lnSpc>
                <a:spcPct val="7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325440">
              <a:lnSpc>
                <a:spcPct val="7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048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30/08/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1016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048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2AD24-B2CB-48E9-93D1-6698E4D50E29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53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048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  <a:ea typeface="DejaVu Sans"/>
              </a:rPr>
              <a:t>30/08/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101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  <a:ea typeface="DejaVu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048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932FF7D-4D0B-4C8F-AB37-98947755CD87}" type="slidenum">
              <a:rPr b="0" lang="en-GB" sz="12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Improving file system performance using access patterns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2133720"/>
            <a:ext cx="82296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57040" indent="-25704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25704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25704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25704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hawal N. Thakk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25704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or of Studies: Dr. Glenford M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25704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ervisor: Prof. Richard Born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25704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5704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600" y="5748480"/>
            <a:ext cx="1171800" cy="109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FC2B-790C-4FAC-A271-B8955150E69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0840" y="204480"/>
            <a:ext cx="816912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Detailed Study of Application-Controlled File Caching Polici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79640" y="1599840"/>
            <a:ext cx="39495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uthor [Cao et al.,1994]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ows user-level control over file cache replacement deci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sed a two-level cache management sche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Used variant of LRU as global algorith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9280" y="1440000"/>
            <a:ext cx="4500720" cy="45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F5C4-EF65-445A-B0D4-AF3A73C2A74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4520" y="324000"/>
            <a:ext cx="8169480" cy="66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Garamond"/>
              </a:rPr>
              <a:t>Contd ...</a:t>
            </a: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(Detail study of Cao</a:t>
            </a:r>
            <a:r>
              <a:rPr b="0" lang="en-GB" sz="2400" spc="-1" strike="noStrike">
                <a:solidFill>
                  <a:srgbClr val="006633"/>
                </a:solidFill>
                <a:latin typeface="QWWQKH+CMR10"/>
                <a:ea typeface="QWWQKH+CMR10"/>
              </a:rPr>
              <a:t>’s</a:t>
            </a: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 work)</a:t>
            </a: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‏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90160" y="971640"/>
            <a:ext cx="8350200" cy="57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Swapping techniqu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o avoid unfairly penalising applic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lace holder techniqu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o avoid application acquiring more blocks than global LR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Guarantees it performs as well as LRU or bet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Looked at access patterns individual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Replace the block whose next reference is farthest awa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3672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st Recently Abandoned (MRA) for looping a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oretical Study of Caching and Prefetching in integrated fash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Only static prefetching was implement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F005-E414-45E2-9FCB-87B2F6CFBDC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9280" y="286920"/>
            <a:ext cx="8694720" cy="8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400" spc="-1" strike="noStrike">
                <a:solidFill>
                  <a:srgbClr val="006633"/>
                </a:solidFill>
                <a:latin typeface="Garamond"/>
              </a:rPr>
              <a:t>Problem in application-controlled caching.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140000" y="1079280"/>
            <a:ext cx="4679640" cy="57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global LRU can result in the wrong file being selected for repla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RU does not find the best allocation between the processes having different access patte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rrect 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sequential file blocks fir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then the working-set file blo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41120" y="2227320"/>
            <a:ext cx="3999240" cy="299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0346-5C59-46BA-AEB0-CF7F3906DA9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5560"/>
            <a:ext cx="818820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Garamond"/>
              </a:rPr>
              <a:t>Proposed</a:t>
            </a: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 Wor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60000" y="1079280"/>
            <a:ext cx="818820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velop a caching mechanism which uses file access patterns for global replacement and dynamic prefet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ss patterns that we will consi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quential access patterns:- Only prefetch block will be ca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ping access patterns:- Most Recently Abandoned Algorith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ing-set access patterns:- LRU Algorith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fetching will be used for Sequential and Looping access patte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E12E-83E3-4CFA-B755-26F1B47CABA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3680" y="212400"/>
            <a:ext cx="817704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contd... (proposed work)</a:t>
            </a: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"/>
          <p:cNvSpPr/>
          <p:nvPr/>
        </p:nvSpPr>
        <p:spPr>
          <a:xfrm>
            <a:off x="4500720" y="1600200"/>
            <a:ext cx="41367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ach access pattern will be represented by a manager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ur work will develop a strategy to maintain fair allocation of blocks dynamically between access patterns and prefetching which will guarantee a stable condi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29080" y="6264360"/>
            <a:ext cx="40305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4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contd... (proposed work)</a:t>
            </a: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84200" y="2160720"/>
            <a:ext cx="3836880" cy="342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CF64-C6B3-4602-A9C0-2DE7D5A8345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36480" y="313920"/>
            <a:ext cx="8159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Stable Cond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"/>
          <p:cNvSpPr/>
          <p:nvPr/>
        </p:nvSpPr>
        <p:spPr>
          <a:xfrm>
            <a:off x="4429080" y="6264360"/>
            <a:ext cx="39592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4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contd... (proposed work)</a:t>
            </a: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9640" y="1260360"/>
            <a:ext cx="8280360" cy="486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6C77-5FA0-4CDA-A02B-395B2174EFA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3680" y="107640"/>
            <a:ext cx="81770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Simulation and Develop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88720" y="934560"/>
            <a:ext cx="84596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ifying UNIX buffer cache is diffic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propose to develop a test bed called Experimental File System (EF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672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ols its own cach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672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use directory structure to specify access patte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will also develop a simulation to investigate the caching mechanisms using file access patte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 idea is to simulate the environment and to look a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nimising cache mis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close we can get to the stable reg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29080" y="6264360"/>
            <a:ext cx="39942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4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contd... (proposed work)</a:t>
            </a: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F5B6-3364-4A5A-8510-27E44843E7C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20840" y="252360"/>
            <a:ext cx="8204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840" y="844560"/>
            <a:ext cx="820404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Kubiatowicz, J.; Bindel, D.; Chen, Y.; Eaton, S. C. P.; Geels, D.; OceanStore: an architecture for global-scale persistent storage, 2000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nderson, T.; Dahlin, M.; Neefe, J.; Pat-terson, D.; Roselli, D. &amp; Wang, R. Serverless network file systems, 1995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Ghemawat, S.; Gobioff, H. &amp; Leung, S. The Google file system, 2003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ai, V. S.; Druschel, P. &amp; Zwaenepoel, W. IO-Lite: a unified I/O buffering and caching system, 2000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ao, P.; Felten, E. W.; Karlin, A. R. &amp; Li, K. A study of integrated prefetching and caching strategies, 1995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lameldeen, A. R. &amp; Schneider, D. A. User-Controlled File Caching in Linux, 2000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ao, P.; Felten, E. W. &amp; Li, K. Application-Controlled File Caching Policies, 1994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Gemikonakli, O.; Mapp, G.; Thakker, D. &amp; Ever, E. Modelling and Performability Analysis of Network Memory Servers, 2006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B69F-D732-4278-964C-7E60F287741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1700280"/>
            <a:ext cx="88930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927520"/>
            <a:ext cx="8964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995640" y="3645000"/>
            <a:ext cx="1116000" cy="223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758B-42B3-42C4-8EB4-EC47FA621434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3760" y="169920"/>
            <a:ext cx="82234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Outline of this talk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7600" y="1079280"/>
            <a:ext cx="8223120" cy="46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tivation for the work: Network Memory Server(NMS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do we need cach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e Of The Art in Caching (problem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vious work done and their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tailed study of Pei Cao'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posed Solution: To improve cache performance by looking at file access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ilding a simulation and a test bed to explore caching mechanisms using file access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67BC-5B79-4093-A30B-0FB0BD68CFB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5920" y="204480"/>
            <a:ext cx="822960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Concept of a Network Memory Serv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30040" y="1260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s storage over the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ications includ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orage for heterogeneous mobile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k Cach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Memory Applications (LM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ging de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s over Fast Commodity Hardware e.g Gigabit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32D8-F2E1-41F3-94DC-28C066D7C2D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3560" y="-46080"/>
            <a:ext cx="818208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Why do we need caching?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"/>
          <p:cNvSpPr/>
          <p:nvPr/>
        </p:nvSpPr>
        <p:spPr>
          <a:xfrm>
            <a:off x="5232240" y="2003400"/>
            <a:ext cx="3048120" cy="30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060560"/>
            <a:ext cx="8182080" cy="50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704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/O operations are not fast enough when compared to processing of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704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so network software is not fast enough for network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704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ching could be used to improve the respons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ggregates multiple writes and reads, reduces the overall IO/network traff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704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alytical Model of mdxN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hows that caching is important at client end and even more important in wireless environment [Gemikonakli et al, 2006]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FC72-44BE-4502-8364-F1FE63F7681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8840" y="204480"/>
            <a:ext cx="822348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Published Paper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36520" y="1009800"/>
            <a:ext cx="822312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8840" indent="-25092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pp, G.; Thakker, D. &amp; Silcott, D. The Design of a Storage Architecture for Mobile Heterogeneous Devices icns, IEEE Computer Society, 2007, 0, 4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pp, G.; Thakkar, D. &amp; Silcott, D. Network Memory Servers: An idea whose time has come Multi-Service Networks (MSN), 200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emikonakli, O.; Mapp, G.; Thakker, D. &amp; Ever, E. Modelling and Performability Analysis of Network Memory Servers ANSS '06: Proceedings of the 39th annual Symposium on Simulation, IEEE Computer Society, 2006, 127-13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emikonakli, O.; Mapp, G.; Ever, E. &amp; Thakker, D. Modelling Network Memory Servers with Parallel Processors, Break-downs and Repairs ANSS '07: Proceedings of the 40th Annual Simulation Symposium, IEEE Computer Society, 2007, 11-2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3448-BE91-4B82-AD85-4D53C08AFE0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822492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State Of the Art in Caching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31920" y="1069920"/>
            <a:ext cx="8224560" cy="50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ching has revolved around the idea of a working-set mod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perience has shown that Least Recently Used (LRU) algorithm works relatively well with general applic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RU is unsuitable for applications such as database and multimedia which are becoming more importa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quential access patterns, no working set or Looping access patterns, size of the file is working s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us access patterns should be considered as part of cache management strateg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B3C1-0760-4FB9-85FC-B19AB808154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3680" y="-108000"/>
            <a:ext cx="81421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Previous Research On Ca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360" y="1260360"/>
            <a:ext cx="822492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920" y="900000"/>
            <a:ext cx="8640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60000" y="826560"/>
            <a:ext cx="8209080" cy="57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Distributed file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ceansto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[kubiatowicz et al., 2000]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672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ed at caching to improve the response time and avail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rverless file system(xFS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[Anderson et al., 1995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3672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xFS client outperforms one NFS client by benefiting from cooperative ca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oogle file system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[Ghemawat et al., 200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3672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not caching sequential files, it showed performance gain for huge file that mostly reads and writes sequenti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are not looking at caching issues related to distributed fil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CE92-7F70-42B5-A438-867A45D88C8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321840"/>
            <a:ext cx="814860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Caching Mechanis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8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0920">
              <a:lnSpc>
                <a:spcPct val="7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U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7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iPE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3C4D-771C-4082-A302-AFB9ABF01D7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8640" y="0"/>
            <a:ext cx="8217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Contd....</a:t>
            </a:r>
            <a:r>
              <a:rPr b="0" lang="en-GB" sz="2600" spc="-1" strike="noStrike">
                <a:solidFill>
                  <a:srgbClr val="006633"/>
                </a:solidFill>
                <a:latin typeface="Arial"/>
              </a:rPr>
              <a:t>(previous research on caching)</a:t>
            </a:r>
            <a:r>
              <a:rPr b="0" lang="en-GB" sz="2600" spc="-1" strike="noStrike">
                <a:solidFill>
                  <a:srgbClr val="006633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0360" y="900000"/>
            <a:ext cx="84596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60360" y="1079640"/>
            <a:ext cx="837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Using Controlled cache to enhance ca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er-Controlled File Caching in Linux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[Alameldeen, 2000]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672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miting the amount of pages a file can occu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672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ing all pages of a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672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olling the per-file page replacement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672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mall file reads are unaffected by the large sequential file rea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672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owing users to set number of pages can lead to unstabl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FBA8-A221-46EB-B08D-09CB65F9C78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Slide 1</dc:title>
</cp:coreProperties>
</file>