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10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4760" y="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16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30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856296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8159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64D11-56E7-47C9-8EE1-60EDDCB3C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7"/>
          </p:nvPr>
        </p:nvSpPr>
        <p:spPr>
          <a:xfrm>
            <a:off x="-360" y="8686440"/>
            <a:ext cx="296388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dt" idx="8"/>
          </p:nvPr>
        </p:nvSpPr>
        <p:spPr>
          <a:xfrm>
            <a:off x="3881160" y="-360"/>
            <a:ext cx="296388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BC921-6108-48F3-9265-8F3F40487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75060-ECE2-4647-92C5-4592A2429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685800"/>
            <a:ext cx="4532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11781-1D78-4D7B-AC29-87330385D1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4F72C-CCDB-49A9-9C39-9D61B8049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7E9B2-69D6-4829-8F0F-CC7D94DFA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3CEA9-72F4-44E6-AEA1-CE786BA8C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020DD-48B7-47E4-852E-8F0148EC49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09E79-F390-4190-B7BC-5AA715217A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57D3C-46F1-4CEA-9F17-14C80366C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3EB46-CFE7-4D6E-B7C6-363FA8F43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43000" y="685800"/>
            <a:ext cx="443088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43000" y="685800"/>
            <a:ext cx="443700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D8CED-DC00-4987-ABE9-66618559B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6FC1F-2842-41EB-A7F8-C9BA9BF93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983DB-990B-433F-9D65-6977FA53A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43000" y="685800"/>
            <a:ext cx="454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94F61-491D-4669-9B04-58B7EA41DF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DA0AF-7D8E-4AC4-ABF1-13A423E00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4144B-614A-4EFD-B0F9-E7E452F838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9ADF9-49B6-49AE-A381-659090A82B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685800"/>
            <a:ext cx="4491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E39E1-791F-4EE1-AE74-877B9708B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ADEFF-0FF5-41BC-A758-D43DBAEC4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685800"/>
            <a:ext cx="4511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A83A7-3A05-4C17-B071-C3682894DD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685800"/>
            <a:ext cx="4468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E36B-826B-482C-80AD-42EDADD7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560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A223-1EA3-4C2C-AC1A-2C298023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432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2AB4-3979-47F2-9BB6-9DA82E9E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708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696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708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696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00F3-CC8C-4EF2-8105-4F0272F6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EA391-A0B2-41A0-A933-EF5B88B63E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0740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719FF-C906-47F3-9627-5DE01D24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40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12568-47BD-49A3-86D4-4346C0EE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EAEFB-3756-4A1C-B873-5F54BD49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FE6A0-7D5D-4FFE-8AA4-12623586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07408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3D68A-7192-4831-8FD5-2E47E7DD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37C26-7CF6-42D3-86C1-F25509F5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0740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7E0E-892C-44CA-847D-98C37654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432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515BE-8190-4431-A33D-7E741D49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D7D03-AACB-4CDB-90A1-AC4B9DE0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560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74679-27C7-4E75-851C-EF25F673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432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6ED02-B2F9-4CD7-ADCD-2BB2F752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708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696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708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696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2D975-E124-4612-AD67-478FF5EDD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40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5EEF-0AD6-48AF-8327-D48FAE3E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3759-1293-4A49-9117-11F2EFA7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2873-0B07-47AE-B86D-F0D58636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07408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6DD2-1950-4F71-99A4-76FA11C0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76FF-45E7-45DF-941E-8EC0F079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432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6125-0C04-4DF9-A3B6-12AC019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5F96-75CC-4D75-845C-5F99BB5C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0740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858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4400" indent="-23508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126120"/>
            <a:ext cx="277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2040"/>
            <a:ext cx="19782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5E82F-ADB0-4302-BF4D-498DF9B79851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827440" y="5178600"/>
            <a:ext cx="251136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CCM Research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00360" y="6246720"/>
            <a:ext cx="3774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800" spc="-1" strike="noStrike">
                <a:solidFill>
                  <a:srgbClr val="000000"/>
                </a:solidFill>
                <a:latin typeface="Century Schoolbook 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entury Schoolbook L"/>
              </a:rPr>
              <a:t>CCM Networking Research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6840" y="6246360"/>
            <a:ext cx="212580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800" spc="-1" strike="noStrike">
                <a:solidFill>
                  <a:srgbClr val="000000"/>
                </a:solidFill>
                <a:latin typeface="Century Schoolbook 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46748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2040"/>
            <a:ext cx="19782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rPr>
              <a:t>30/08/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38800"/>
            <a:ext cx="277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2040"/>
            <a:ext cx="19782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53C823-E3C3-439B-8AA8-941A5ADDFFF2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77920"/>
            <a:ext cx="82296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Balancing Streaming and Demand Accesses in a Network Based Storage Environ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2160720"/>
            <a:ext cx="82296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hawal N. Thakk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600" y="5748480"/>
            <a:ext cx="117180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360360"/>
            <a:ext cx="8783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oblems in C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0360" y="1440000"/>
            <a:ext cx="845964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ing multiple threads tied up system and network resources and hence was not opt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7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ing NFS was the main draw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uld not take advantage of cluste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CPU cost while fetching one block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9074-0EA0-4756-93BC-C7F357D4E3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2520" y="262080"/>
            <a:ext cx="8188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oposed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0360" y="1079640"/>
            <a:ext cx="82803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it clustering and prefetching over the network using N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guarantee the quality of servi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reaming applications (once they are started) with no j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requests should be satisfy in reasonable ti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703B-4E6B-4F1A-96D5-6A279662809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9640" y="360360"/>
            <a:ext cx="8099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1260360"/>
            <a:ext cx="8280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llows streaming applications to run without jit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&lt; Time to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Cp &lt;= Tcpu *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verage waiting time expereince to satisfy Demand misses should be less than the average waiting time on disk (Tdisk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F490-E5CC-4126-B830-037169581A7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360360"/>
            <a:ext cx="8099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servative Prefetching: P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360" y="900000"/>
            <a:ext cx="8280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e would first adopt the conservative approach taken by Pei Ca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e only prefetch when there is a demand miss i.e Prefetching on Demand (PonD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, using PonD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(p+d) * C &lt;= ( Tcpu * p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r demand misses, the waiting time should be less than average waiting time on dis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+ Twait &lt; T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(p+d) * C + Twait &lt;= T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6B0A-E28B-46A2-A602-80566461F28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6680" y="178920"/>
            <a:ext cx="802296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wards an Analytica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53880" y="900000"/>
            <a:ext cx="81057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control the prefetch rates for streaming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 misses are totally rand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analyse average waiting time on the demand queue for different arrival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6490-8682-4D1B-9BC4-4F0EB441791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82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wards an Analytica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77640" y="2339640"/>
            <a:ext cx="8081640" cy="3779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79640" y="2879640"/>
            <a:ext cx="7151400" cy="2519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60360" y="1079640"/>
            <a:ext cx="774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represent this scenario as a single queue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4B13-343D-4170-8039-A06AC4EA6D1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360360"/>
            <a:ext cx="8170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ndard Solution: Partial Bulk Servic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3600000"/>
            <a:ext cx="8105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80000"/>
              </a:lnSpc>
              <a:spcBef>
                <a:spcPts val="850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ccurate at very high loads, but it is not suitable for low 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85840">
              <a:lnSpc>
                <a:spcPct val="80000"/>
              </a:lnSpc>
              <a:spcBef>
                <a:spcPts val="850"/>
              </a:spcBef>
              <a:spcAft>
                <a:spcPts val="339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haustive-limited while our scenario is gate- lim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 a new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8459640" cy="19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3CD9-0769-47B7-9EF2-56C4A00B18C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17928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Our Mode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00720" y="1600200"/>
            <a:ext cx="4136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9640" y="1015920"/>
            <a:ext cx="8099640" cy="510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99A0-896C-4352-A57A-FD3B3782BBD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9640" y="179280"/>
            <a:ext cx="7996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Model for d 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7920000" cy="395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F0DB-B5FA-4DEB-B2A1-0340708129C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63680" y="360360"/>
            <a:ext cx="79959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sults: Varifying results from simulation with Bulk service model and Our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60360" y="1619280"/>
            <a:ext cx="82803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6116-C291-4CB8-BA58-023ADAFE886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4120" y="312840"/>
            <a:ext cx="82234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reaming ap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00" y="1079640"/>
            <a:ext cx="824364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d use of YouTube, BBC-IPlayer applications which run over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fet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n Clustering help to reduce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 mi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00F0-A0A3-42CA-82E6-8253A503A6B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08848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Defining an Operational 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7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define an operational space consisting of three a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00000" y="2700360"/>
            <a:ext cx="69249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7CC7-6044-4292-B115-655E13CCF07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46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Navigating the space using constrai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9460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95000"/>
              </a:lnSpc>
              <a:spcBef>
                <a:spcPts val="737"/>
              </a:spcBef>
              <a:spcAft>
                <a:spcPts val="567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wait, demand misses &lt; T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95000"/>
              </a:lnSpc>
              <a:spcBef>
                <a:spcPts val="737"/>
              </a:spcBef>
              <a:spcAft>
                <a:spcPts val="567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net(p+d)  &lt;  P* Tcp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DF1C-4BCD-46CB-9685-CB29B4F3B45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6633"/>
                </a:solidFill>
                <a:latin typeface="Garamond"/>
              </a:rPr>
              <a:t>Exploring the space for a given arrival rate, 350 microsec </a:t>
            </a:r>
            <a:br>
              <a:rPr sz="2600"/>
            </a:b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39640" y="181944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4264-EEA1-42BC-BC1B-453EAC6BF44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350microsec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39640" y="181944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8355-BAD9-48D7-8420-3000CF47A39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31392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3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2748-A139-46CE-A435-397C16F379D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9640" y="181944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9E07-8324-48B1-84A7-896C93F53F6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2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7833-57FC-40FA-AD47-A0DE2561832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9640" y="360360"/>
            <a:ext cx="788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Future Wor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0360" y="1079640"/>
            <a:ext cx="828036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more accurate analytical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426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w model based on P2,2 that appears to be more accurate over a wider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n algorithm to automate the process of exploring space (D = 1 - 5 and P = 1 - 20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udy the effect on cache due to prefetch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xperimental File System (EF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80000"/>
              </a:lnSpc>
              <a:spcBef>
                <a:spcPts val="1426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find out real tim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F0DB-B9D7-44FF-BF23-951DC8C8DEF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60360" y="360360"/>
            <a:ext cx="8247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ublished Pap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6000" y="900000"/>
            <a:ext cx="82436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sign of a Storage Architecture for Mobile Heterogeneous Devices icns, IEEE Computer Society, 2007, 0, 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Memory Servers: An idea whose time has come Multi-Service Networks (MSN)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and Performability Analysis of Network Memory Servers ANSS '06: Proceedings of the 39th annual Symposium on Simulation, IEEE Computer Society, 2006, 127-1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Network Memory Servers with Parallel Processors, Break-downs and Repairs ANSS '07: Proceedings of the 40th Annual Simulation Symposium, IEEE Computer Society, 2007, 11-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544B-77B7-4FE5-96D8-9ADD4D92A50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360360"/>
            <a:ext cx="8085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840" y="844560"/>
            <a:ext cx="8204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o, P.;  Application-Controlled File Caching Policies, 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Rochberg et al. Prefetching over a network: early experience with CTIP. SIGMETRICS Perform. Eval. Rev., 25(3):29–36,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. H. Patterson et al. Informed Prefetching and Caching. In SOSP ’95:Proceedings of the fifteenth ACM symposium on Operating systems principles, 1995. A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 Li, K. Shen et al., Competitive prefetching for concurrent sequential I/O. SIGOPS Oper. Syst.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. E. Papathanasiou et al., Energy efficient prefetching and caching. In ATEC: USENIX Annual Technical Conference,  2004. USENIX Assoc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0A58-47E2-4CA7-90A6-9476DA1C11D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311040"/>
            <a:ext cx="8182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8956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50320"/>
                <a:tab algn="l" pos="9399600"/>
                <a:tab algn="l" pos="98488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lustering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in the context of the networks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32240" y="2003400"/>
            <a:ext cx="3048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60000" y="900000"/>
            <a:ext cx="85582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Cluste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37"/>
              </a:spcBef>
              <a:spcAft>
                <a:spcPts val="25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y Clustering over th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twork software not fast enou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ggregates reads and w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52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tter use of 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ing can benef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A1D8-007A-4D51-9EC7-750B568C313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700280"/>
            <a:ext cx="889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535640"/>
            <a:ext cx="896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19640" y="1432080"/>
            <a:ext cx="1901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7968-C87C-41BE-A9CB-2F15A88029BA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49200" y="276120"/>
            <a:ext cx="8229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cept of a Network Memory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760" y="118908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torage over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over Fast Commodity Hard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lock-based system, can request several blocks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mulates the commercial environment for streaming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ch as video-on-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16DC-61FC-4112-9FEA-0D4F102E4B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60360" y="1258920"/>
            <a:ext cx="8459640" cy="3600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319640" y="5580000"/>
            <a:ext cx="4140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" y="36036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Benefits of Clus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0720" y="5400720"/>
            <a:ext cx="611964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5080" y="5126040"/>
            <a:ext cx="795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 marL="13716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p blocks = L + 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0C87-85BC-47A7-8265-7CA8B6119E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60360" y="900000"/>
            <a:ext cx="845964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refetching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tegrated Prefetching and Caching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ei Cao et al., 1995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33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only static prefetching in which a _x000c_fixed number of blocks were prefet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850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petitive prefetching for concurrent sequential I/O.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[Li et al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2007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controls the prefetching dep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79280"/>
            <a:ext cx="7956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vious Research On Prefetc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FE28-BD1E-4B0E-83E0-AB531CAB2F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168120"/>
            <a:ext cx="81691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ailed Study of Informed Prefetching and Caching 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[R. H. Patterson et al., 1995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7800" y="1260360"/>
            <a:ext cx="83329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xploits access patterns and I/O paralle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7920000" cy="41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6DE0-9591-4A72-904A-1826CB110A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360360"/>
            <a:ext cx="774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 ... (Detail study of  Patterson's Work)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0360" y="1739880"/>
            <a:ext cx="81518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 Hori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7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pto 20% to 85%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isk Cen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rallel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04EA-5AD2-4B11-B1BE-45E4C2EE14B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9640" y="360360"/>
            <a:ext cx="885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fetching Over a network: early experience with CTIP [</a:t>
            </a:r>
            <a:r>
              <a:rPr b="1" lang="en-GB" sz="2400" spc="-1" strike="noStrike">
                <a:solidFill>
                  <a:srgbClr val="006633"/>
                </a:solidFill>
                <a:latin typeface="Arial"/>
              </a:rPr>
              <a:t>D. Rochberg et al.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, 1997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9720" y="1690560"/>
            <a:ext cx="8126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sion of  Patterson's work to a network storage, using N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ulated parallel disk approach using multiple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prefetching strategy explored in Patterson's 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ed performance improvement by reducing execution time (17% - 62%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10D7-6E51-4A22-98B5-3D7F0D8A528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dlesex University</cp:lastModifiedBy>
  <cp:revision>0</cp:revision>
  <dc:subject/>
  <dc:title>Slide 1</dc:title>
</cp:coreProperties>
</file>