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7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406760" cy="33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3211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56296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806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687DD-339E-4A54-8221-83B3DE7E4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7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dt" idx="8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0B4F-A98E-449C-A765-C1AEEABD8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535A1-0E76-49C6-9202-EBA133527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5FFC4-08E0-4E4E-8F3D-B70DF122F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0B2AB-0C0D-4208-884B-72DAE47C6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B43A4-2044-4D47-A27D-EB140C217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FC9A-2A0A-402E-8804-CB02E3457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BE62-3810-4AD8-B143-434F7DECE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D2CBF-F011-4A32-BE0A-6373AE712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43000" y="685800"/>
            <a:ext cx="443088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9BD36-A14E-4F19-8CD4-FB62B7A44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2718-B96B-4B4A-A22E-0CBD51ABE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D20E2-ED3E-4EA1-877D-58A0CF0D5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4B3B8-7F34-44A4-9B84-F5B5E945D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A186-00FE-47C7-B40E-4702AC124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987F4-CBC6-4AD9-B2FD-778D0F894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71FF-936B-4FF7-821A-C6E5FA977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AEE67-5327-497E-890C-6213A09C6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48050-E88D-4263-A303-C4944A9E9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04621-50E7-4803-806F-2A5737163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AEC69-3DCA-49AE-BC8B-257F950E6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685800"/>
            <a:ext cx="4468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C937-CA31-485D-A528-C3C9D5F2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3D01-2006-4FE4-9E1E-711AF76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9FCF-2EF1-43FE-BAB0-48CE2C63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348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76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348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76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27A8-4D9E-456D-A0C3-0A89164E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C740B-804E-4D1B-83E6-703AD271B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0DE6-9E51-4AFF-9EFC-AAAA21D6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15BDE-DAF6-4061-865D-51E7759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7DCB7-E6F9-4B77-86D7-376164B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FF23E-31F3-4F12-A0B1-D76C79DD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06436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DA0C-C854-4418-9296-581FBA5A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A6567-81F2-4010-AB06-8BF84758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F230-67F3-4D1C-ABC3-D83C9E56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A198-52E9-434E-A7A8-25C1944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46C0A-BF51-49B5-B116-DED8DF8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92F02-0A2A-49AB-91C9-500645D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3D13-CD9B-45D9-A0A2-BDBC82E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348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976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348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976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5B745-3409-4C47-8F59-1DE80A79C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140C-3386-47EA-9D3B-F6F1576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FF79-D912-46FF-AD45-41775347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5F06-D1B1-4140-BC1E-F244E9C8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06436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DF8B-95F5-49D9-84D2-45BA5A9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3639-03BE-4EE9-8276-3B747AB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597E-7EED-40B3-97B4-41803A2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766F-971A-4676-BA8C-8F32EF7B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-27612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22860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12612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2040"/>
            <a:ext cx="19684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93651-442E-4F28-9F6C-E5DB6C1E018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27440" y="5178600"/>
            <a:ext cx="251136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CM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806480" y="6276960"/>
            <a:ext cx="5205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entury Schoolbook L"/>
              </a:rPr>
              <a:t>Middlesex Uni. Networking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7200" y="6246360"/>
            <a:ext cx="211608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45812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2040"/>
            <a:ext cx="19684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30/08/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3880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2040"/>
            <a:ext cx="19684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5871B2-F54A-407D-897C-8B3784A39235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7920"/>
            <a:ext cx="82296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Modelling mixed access-patterns in Network-Based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160720"/>
            <a:ext cx="8229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2520" y="262080"/>
            <a:ext cx="8188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posed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1079640"/>
            <a:ext cx="8280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it clustering and prefetching over the network using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uarantee the quality of serv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aming applications (once they are started) with no j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requests, in reasonable 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6B14-E3AC-4140-A5C1-AE57437899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" y="1260360"/>
            <a:ext cx="828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llows streaming applications to run without jit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&lt; Time to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Cp &lt; Tcpu *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waiting time expereince to satisfy Demand misses &lt; the average waiting time on disk (Tdisk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d * C) + Twait &lt; Tdis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D644-4929-4CEB-A916-2B42AC380D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servative Prefetching: P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900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irst adopt the conservative approach taken by Pei Ca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when there is a demand miss i.e Prefetching on Demand (Pon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using Pon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&lt; ( Tcpu * 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demand misses, the waiting time &lt; Tdi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+ Twait &lt;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+ Twait &lt;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A0E5-9968-4C82-98C8-22C95918ED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78920"/>
            <a:ext cx="802296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53880" y="1080720"/>
            <a:ext cx="81057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control the prefetch rates for streaming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misses are totally ran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analyse average waiting time on the demand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0720" y="4319640"/>
            <a:ext cx="7199280" cy="22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9BA0-8DED-47A9-B142-7ED1E90A3F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82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7640" y="2339640"/>
            <a:ext cx="8081640" cy="3779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7151400" cy="2519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0360" y="107964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represent this scenario as a single queue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91BC-B1DE-4335-ADCA-6772A88799A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360360"/>
            <a:ext cx="8170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ndard Solution: Partial Bulk Servic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3600000"/>
            <a:ext cx="8105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curate at very high loads, but it is not suitable for 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-276120">
              <a:lnSpc>
                <a:spcPct val="80000"/>
              </a:lnSpc>
              <a:spcBef>
                <a:spcPts val="850"/>
              </a:spcBef>
              <a:spcAft>
                <a:spcPts val="339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haustive-limited while our scenario is gate- 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a new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845964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AD03-A02C-4C24-9560-9A01075D642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17928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r Mod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015920"/>
            <a:ext cx="8099640" cy="510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679E-0079-4CCD-8D7F-0BC0277F45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9640" y="179280"/>
            <a:ext cx="7996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Model for d 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792000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0A6E-2F5D-4687-A14D-CB075FBC793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3680" y="360360"/>
            <a:ext cx="79959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sults: Varifying results from simulation with Bulk service model and Our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82803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43CC-F042-49EC-A4B6-1B710F96A48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08848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Defining an Operational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fine an operational space consisting of three a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00000" y="2340000"/>
            <a:ext cx="6924960" cy="234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4840200"/>
            <a:ext cx="8094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wait, demand misses &lt; T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net(p+d)  &lt;  P* Tcpu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3282-BE7C-407B-8199-6072AD86239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4120" y="312840"/>
            <a:ext cx="8223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reaming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00" y="1079640"/>
            <a:ext cx="82436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use of YouTube, BBC-IPlayer ap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Clustering help to reduce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mi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89D8-D5A3-4D4B-92BD-EA539D1950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Exploring the space for a given inter arrival time, 350 microsec 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AB1D-FAC4-4154-8810-818EEE58FBA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E06E-B455-47AE-8A7B-30A9C638151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31392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E420-303A-4338-9F25-F85D09FD195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2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3C1A-9E80-423C-BC89-52532C3578C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9640" y="360360"/>
            <a:ext cx="788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Future 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1079640"/>
            <a:ext cx="828036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more accurate analytic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n algorithm to automate the process of exploring space (D = 1 - 5 and P = 1 - 20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udy the effect on cache due to prefetch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erimental File System (EF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0000"/>
              </a:lnSpc>
              <a:spcBef>
                <a:spcPts val="1426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find out real tim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14E0-8E80-4584-A87B-01EBA4F7F48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60360" y="360360"/>
            <a:ext cx="8247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6000" y="900000"/>
            <a:ext cx="82436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of a Storage Architecture for Mobile Heterogeneous Devices icns, IEEE Computer Society, 2007, 0, 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Memory Servers: An idea whose time has come Multi-Service Networks (MSN)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and Performability Analysis of Network Memory Servers ANSS '06: Proceedings of the 39th annual Symposium on Simulation, IEEE Computer Society, 2006, 127-1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Network Memory Servers with Parallel Processors, Break-downs and Repairs ANSS '07: Proceedings of the 40th Annual Simulation Symposium, IEEE Computer Society, 2007, 11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60A1-3736-4828-BDB5-E2AD9C952CC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360360"/>
            <a:ext cx="8085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o, P.;  Application-Controlled File Caching Policies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Rochberg et al. Prefetching over a network: early experience with CTIP. SIGMETRICS Perform. Eval. Rev., 25(3):29–36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. H. Patterson et al. Informed Prefetching and Caching. In SOSP ’95:Proceedings of the fifteenth ACM symposium on Operating systems principles, 1995. A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 Li, K. Shen et al., Competitive prefetching for concurrent sequential I/O. SIGOPS Oper. Syst.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E. Papathanasiou et al., Energy efficient prefetching and caching. In ATEC: USENIX Annual Technical Conference,  2004. USENIX Assoc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4EEB-1144-47D2-AABF-A6F76E3A55B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535640"/>
            <a:ext cx="896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1432080"/>
            <a:ext cx="190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35AC-2BA3-4D5C-9721-B4F5ACFA826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2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39AA-3677-43FA-B393-A07CA6742E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169D-8D45-4AF0-A901-72EBD99ABA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11040"/>
            <a:ext cx="8182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8956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40960"/>
                <a:tab algn="l" pos="9390240"/>
                <a:tab algn="l" pos="98391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lustering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n the context of the networks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41000" y="898200"/>
            <a:ext cx="85582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Clus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y Clustering over th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software not fast en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es reads and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tter use of 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ing can bene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E495-5A69-4CE9-946B-F0DB4BA5C95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fidence Lev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774072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6731-B0BF-4588-93D8-ECB02EA5EEBB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49200" y="27612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760" y="11890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lock-based system, can request several blocks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mulates the commercial environment for stream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ch as video-on-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FC7A-03BE-47C9-9F92-CC34D2334B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8459640" cy="3600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319640" y="5580000"/>
            <a:ext cx="414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0360" y="36036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Benefits of Clus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0720" y="5400720"/>
            <a:ext cx="61196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5080" y="5126040"/>
            <a:ext cx="795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p blocks = L + 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0F4C-1FC1-4A9B-BFD7-C350E0627F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60360" y="968400"/>
            <a:ext cx="84596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efetching Mechanis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1701"/>
              </a:spcAft>
              <a:buClr>
                <a:srgbClr val="000000"/>
              </a:buClr>
              <a:buFont typeface="Times New Roman"/>
              <a:buChar char="–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ed Prefetching and Caching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ei Cao et al., 199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5000"/>
              </a:lnSpc>
              <a:spcAft>
                <a:spcPts val="4249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tatic prefetching in which a _x000c_fixed number of blocks were prefet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Aft>
                <a:spcPts val="4249"/>
              </a:spcAft>
              <a:buClr>
                <a:srgbClr val="000000"/>
              </a:buClr>
              <a:buFont typeface="Times New Roman"/>
              <a:buChar char="–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formed Prefetching and Caching [R. H. Patterson et al., 199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4249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Hori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5000"/>
              </a:lnSpc>
              <a:spcAft>
                <a:spcPts val="4249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sk Centric and parallel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79280"/>
            <a:ext cx="7956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Prefet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7392-1673-4A2A-A4B5-307526BEF7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168120"/>
            <a:ext cx="81691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Informed Prefetching and Caching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R. H. Patterson et al., 199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7800" y="1260360"/>
            <a:ext cx="83329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loits access patterns and I/O 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792000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BA42-53E4-4D57-9080-AB7AEFC0A1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9640" y="36036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 ... (Detail study of  Patterson's Work)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0360" y="1739880"/>
            <a:ext cx="81518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Hori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7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pto 20% to 85%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sk Cen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AAF2-3223-42DB-A5EE-94333D48FB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9640" y="36036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fetching Over a network: early experience with CTIP [</a:t>
            </a:r>
            <a:r>
              <a:rPr b="1" lang="en-GB" sz="2400" spc="-1" strike="noStrike">
                <a:solidFill>
                  <a:srgbClr val="006633"/>
                </a:solidFill>
                <a:latin typeface="Arial"/>
              </a:rPr>
              <a:t>D. Rochberg et al.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, 1997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9720" y="1690560"/>
            <a:ext cx="8126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of  Patterson's work to a network storage, using N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ed performance improvement by reducing execution time (17% - 62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ing NFS was the main drawback, no clus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PU cost while fetching one block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DAE8-8C88-46F4-9841-94AE9B1499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dlesex University</cp:lastModifiedBy>
  <cp:revision>0</cp:revision>
  <dc:subject/>
  <dc:title>Slide 1</dc:title>
</cp:coreProperties>
</file>