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5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5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6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6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7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7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7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7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7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52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852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4528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3672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8526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8526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6C4C9-0CC5-4064-8E32-1BC90E965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334BF-7F38-4CE0-922E-2DA10F394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12E5E-322B-444A-ADEE-8DF196EF4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B5B21-EBBE-4F3C-89DB-3854251E1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1143000" y="685800"/>
            <a:ext cx="4468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8D087-BF4D-4F5B-91F4-3FB7E8251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41A97-4720-4ACC-BF83-12C66EAB7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1143000" y="685800"/>
            <a:ext cx="4467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28B78-1E75-4EE3-B8A1-06565B16F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01EB7-ECDB-4A95-BD2B-04B144A70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A433A-F9EB-4C58-949B-8FEDB79B9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61D1C-8E74-42B6-9136-1CD0D58E4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AB9E6-70E6-46FA-9D11-2E462B6CC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30515-0B5D-492B-A47D-285353786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00EED-90C1-43B2-9AFC-66DAC02B2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539280" y="4346640"/>
            <a:ext cx="5389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Outline of this talk is as foll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EC3C9-6DBA-4E7D-88A4-CC6B16EDA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43000" y="685800"/>
            <a:ext cx="4459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3B636-20A4-445A-AF24-37A863D5F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43000" y="685800"/>
            <a:ext cx="4456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AEA58-2B41-40B2-9860-1EDBED7D4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77DA3-6C2B-4EB7-989C-BD6578265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CDFA9-2A8E-4B90-99C1-9CBF0BA77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AC1B2-F88B-4122-B547-ABFDF561A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A0AA8-0D94-498F-96AE-0A4909D94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216E9-DE38-4713-BF33-BB9AF61F9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49FD5-AB1F-45E4-BF3E-320E14C05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9EF-24DC-44F4-904B-AE8CC389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39C-4693-476A-AFA8-6F4AFF23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EFC-8B35-4C47-8BB3-4A7E77D5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932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80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932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80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8F7-C338-402F-8D30-4119C855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DE42-40C7-47F9-8C5E-089E807A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E59-22ED-4355-BC87-B110229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39BF-2015-48E9-9F41-5E72D12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BCA6-0AE7-4050-9894-E68080AA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C2DA-CE48-46AB-84E0-62BF77F0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1044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A096-28C8-48D6-9F65-484ABB59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7643-606C-46A2-84A5-38126A7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012-8D4E-4A9E-A621-A1E5AAD0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7D9-BDEC-4891-AD09-271E0AAA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43CB-8707-4446-953A-0B70A80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076-FD15-413F-9B57-3DACE3D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F1D9-8B70-4CB4-821C-BF6D5979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932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80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932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80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D7E7-8BBC-4BAF-95CB-3B3CFF95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BEE-F255-4139-A4AC-D539C338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F3C-7B44-46D4-87E1-AE8EA4C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EB9-2573-4185-BAC5-DB32B8FD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1044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F1D-E8A4-4294-8BE1-8F10E3A6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A34-4E62-4648-92A9-470DFCCF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642-FA8F-42B5-8A8E-270EC6E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F32-D957-4087-9DF6-C7E297D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20760" indent="-271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7766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96BE6A-99C8-45FE-A789-77439D7EC97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504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776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BD00A9-2DEB-404F-9C58-AB5B91F1977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6E3B6-4C10-4D0D-86FC-D95C972C4E4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mproving file system performance using access patter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11280" y="2133720"/>
            <a:ext cx="822960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 of Studies: Dr. Glenford M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ervisor: Prof. Richard Born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5C25B-ABCA-4226-B706-58FF81DF28C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4520" y="324000"/>
            <a:ext cx="8169480" cy="66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 ... (Detail study of Cao</a:t>
            </a:r>
            <a:r>
              <a:rPr b="1" i="1" lang="en-GB" sz="3600" spc="-1" strike="noStrike">
                <a:solidFill>
                  <a:srgbClr val="006633"/>
                </a:solidFill>
                <a:latin typeface="Arial"/>
              </a:rPr>
              <a:t>’s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 work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0000" y="1223640"/>
            <a:ext cx="83502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s as well as LRU or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ed at access patterns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2276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Recently Abandoned (MRA) for looping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oretical Caching and Pref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xed prefet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77965-FBA9-4AA3-88ED-B932EACE88D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75680"/>
            <a:ext cx="89280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ection Based Adaptive Replacement (DEAR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 [jongmoo Choi, 1999]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9720" y="1690560"/>
            <a:ext cx="8126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90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of Pei Cao'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90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empts to automatically detect block reference patterns while processes are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90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as a globa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51AA4-C1ED-4437-81F8-4F8F9A45848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280" y="216000"/>
            <a:ext cx="869472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blem in using LRU as global Algorith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40000" y="1440000"/>
            <a:ext cx="4679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rect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sequential file block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does not find the best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3961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630A-C7F9-4FA8-8338-56C60F28CAB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1234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placing Global LRU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539640" y="1440000"/>
            <a:ext cx="738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2840" y="1707840"/>
            <a:ext cx="81230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9000"/>
              </a:lnSpc>
              <a:spcBef>
                <a:spcPts val="737"/>
              </a:spcBef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sider different file access patterns when doing global re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89000"/>
              </a:lnSpc>
              <a:spcBef>
                <a:spcPts val="737"/>
              </a:spcBef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to balance the allocation of blocks between different file access patter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C9E2F-A779-4209-8135-AEA545F8D5B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1882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posed Wor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000" y="129528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cach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14280">
              <a:lnSpc>
                <a:spcPct val="85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for global replacement and dynamic pref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that we will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ping acc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acc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3655-2E80-43C1-AD90-C6BE5E00C15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680" y="212400"/>
            <a:ext cx="8177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 (proposed work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429080" y="6264360"/>
            <a:ext cx="4030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ar-SA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979640" y="1582560"/>
            <a:ext cx="5219640" cy="38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F284F-36B2-4A8A-9EA3-0312E10DF3B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322200"/>
            <a:ext cx="81597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ble Condi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429080" y="6264360"/>
            <a:ext cx="3959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ar-SA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720720" y="1208160"/>
            <a:ext cx="3984480" cy="4552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4500720" y="900000"/>
            <a:ext cx="43192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A842-3BAE-45EA-A24D-90AB7A2201E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6960" y="252000"/>
            <a:ext cx="79963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imulation and Developmen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8720" y="1042560"/>
            <a:ext cx="845964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283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UNIX buffer cache i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al File System (EF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wn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83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y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ulation using EFS traffic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sing cache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83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lose can get to stabl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imulation result in the 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429080" y="6264360"/>
            <a:ext cx="3994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ar-SA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1E1C-DC16-43EA-8DA6-68C0392A239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0840" y="360360"/>
            <a:ext cx="820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erson, T.; Serverless network file systems,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hemawat, S.; The Google file system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meldeen, A. R. User-Controlled File Caching in Linux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o, P.;  Application-Controlled File Caching Policies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g Jiang; Dulo: an effective buffer cache management scheme to exploit both temporal and spatial locality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o-Hsien Lee; Hipec: High performance external virtual memory caching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4000"/>
              </a:lnSpc>
              <a:spcBef>
                <a:spcPts val="737"/>
              </a:spcBef>
              <a:spcAft>
                <a:spcPts val="850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DEHFY+CMR10"/>
              </a:rPr>
              <a:t>Jongmoo Choi; An implement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y of a detection-based adaptive block replacement scheme,19</a:t>
            </a:r>
            <a:r>
              <a:rPr b="0" lang="en-GB" sz="2400" spc="-1" strike="noStrike">
                <a:solidFill>
                  <a:srgbClr val="000000"/>
                </a:solidFill>
                <a:latin typeface="KZJUQF+CMTI10"/>
              </a:rPr>
              <a:t>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D4D55-862B-4F39-A6A0-E2F68424F90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4535640"/>
            <a:ext cx="896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419640" y="1432080"/>
            <a:ext cx="190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94B79-3DA0-4F06-9034-E9F8D26C6F3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3760" y="277560"/>
            <a:ext cx="8223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tline of this tal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7600" y="1079280"/>
            <a:ext cx="822312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ivation: Network Memory Server(NM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c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State Of The Art in Caching and its ineleg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i Cao'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ECE91-BDD9-4423-AA6F-171E33A2BAD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24000"/>
            <a:ext cx="8116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irectory Structure of an EF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33280" y="1079640"/>
            <a:ext cx="804708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B465-46BA-45D5-9F19-1892F4C40EB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1800"/>
            <a:ext cx="81136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A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792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EFC3B-0A8C-417A-93CB-5F5B768C961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9200" y="2761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760" y="11890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age for mobil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Memor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dxN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2607-A2BA-49E8-AF54-CF0EF8A0E3D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97920"/>
            <a:ext cx="81820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Why caching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1280" y="1440000"/>
            <a:ext cx="81820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11160">
              <a:lnSpc>
                <a:spcPct val="85000"/>
              </a:lnSpc>
              <a:spcAft>
                <a:spcPts val="5675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software not fast en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11160">
              <a:lnSpc>
                <a:spcPct val="85000"/>
              </a:lnSpc>
              <a:spcAft>
                <a:spcPts val="5675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s reads and w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11160">
              <a:lnSpc>
                <a:spcPct val="85000"/>
              </a:lnSpc>
              <a:spcAft>
                <a:spcPts val="5675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tical Model of mdxNMS [Gemikonakli et al, 2006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297D-AEF5-4953-BD84-B471B449A28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3760" y="312840"/>
            <a:ext cx="82234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5640" y="900000"/>
            <a:ext cx="824364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gn of a Storage Architecture for Mobile Heterogeneous Devices icns, IEEE Computer Society, 2007, 0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Memory Servers: An idea whose time has come Multi-Service Networks (MSN)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and Performability Analysis of Network Memory Servers ANSS '06: Proceedings of the 39th annual Symposium on Simulation, IEEE Computer Society, 2006, 127-1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Network Memory Servers with Parallel Processors, Break-downs and Repairs ANSS '07: Proceedings of the 40th Annual Simulation Symposium, IEEE Computer Society, 2007, 1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165BE-6F44-41A5-93A2-1B13C70A95B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2492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te of the art in Cach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6920" y="1260360"/>
            <a:ext cx="8224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st Recently Used (LRU) algorithm balances the memory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is unsuitabl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79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nd looping access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ing access patterns for memory allocation can do better than L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BB4F-41A8-421C-92A4-13349C0D1E9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63680" y="71280"/>
            <a:ext cx="8142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Ca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414360" y="1260360"/>
            <a:ext cx="82249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58920" y="90000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24000" y="1185840"/>
            <a:ext cx="828036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Distributed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0800" indent="-322200">
              <a:lnSpc>
                <a:spcPct val="79000"/>
              </a:lnSpc>
              <a:spcAft>
                <a:spcPts val="2276"/>
              </a:spcAft>
              <a:buClr>
                <a:srgbClr val="3b812f"/>
              </a:buClr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rverless file system (xFS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[Anderson et al., 199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nefiting from cooperative 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0800" indent="-322200">
              <a:lnSpc>
                <a:spcPct val="79000"/>
              </a:lnSpc>
              <a:spcAft>
                <a:spcPts val="2276"/>
              </a:spcAft>
              <a:buClr>
                <a:srgbClr val="3b812f"/>
              </a:buClr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ogle File System (GFS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[Ghemawat et al., 200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t caching sequential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3121E-4FBD-4B50-AD1D-4DBD5358E80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0000" y="1064880"/>
            <a:ext cx="845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ach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ULO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Dual Locality)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ng Jiang, 2005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s preference to isolated disks blocks to stay longer in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r-Controlled File Caching in Linu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[Alameldeen, 200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-file page replacement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PEC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High Performance External Virtual Memory Caching)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o-Hsien Lee, 1994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FAFR (First Allocated, First Reclaimed) algorithm as a globa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68360" y="181080"/>
            <a:ext cx="813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.(previous research on caching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F5426-8EFE-4476-8FBE-190903C434C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1691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Application-Controlled File Caching Policies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Pei Cao's, 1994]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7740720" cy="4500360"/>
          </a:xfrm>
          <a:prstGeom prst="rect">
            <a:avLst/>
          </a:prstGeom>
          <a:ln w="0">
            <a:noFill/>
          </a:ln>
        </p:spPr>
      </p:pic>
      <p:sp>
        <p:nvSpPr>
          <p:cNvPr id="199" name="Line 3"/>
          <p:cNvSpPr/>
          <p:nvPr/>
        </p:nvSpPr>
        <p:spPr>
          <a:xfrm>
            <a:off x="2843280" y="3348000"/>
            <a:ext cx="828720" cy="93672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 flipV="1">
            <a:off x="4932360" y="3193560"/>
            <a:ext cx="1008000" cy="102708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5318280" y="3276720"/>
            <a:ext cx="1171440" cy="140328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 flipV="1">
            <a:off x="1753920" y="3301560"/>
            <a:ext cx="1243080" cy="117180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dlesex University</cp:lastModifiedBy>
  <dcterms:modified xsi:type="dcterms:W3CDTF">2008-02-01T11:35:03Z</dcterms:modified>
  <cp:revision>1</cp:revision>
  <dc:subject/>
  <dc:title>Slide 1</dc:title>
</cp:coreProperties>
</file>