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352F-8B87-470C-8D88-5908C6A82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7B68-4D12-4A86-9EE3-C1157D5B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0944-900C-4C50-AC57-8C86C85F9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A78C-FA28-40E4-B1B6-03BCB7F8C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89B8-36D8-470C-B7FA-F118D8CB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418A-099D-4003-8D45-BE9E1F81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A21B-7394-45BF-A640-974D83B4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44AC-4E69-4AEB-913C-692237A8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89BB-C619-43BC-90DD-4B69D7BD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C9FF-0488-43D6-A0BA-2A61AEB0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8F45-7759-413E-A6F9-A7383010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85C9-C8EF-4220-8C2A-6508FDC3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DB32-8DA5-4749-9C0D-5A56AE4C1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BSC Client-organ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and Growth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business process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lanced Scorecard of:                            For the Period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___________ to 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762120"/>
            <a:ext cx="3581640" cy="0"/>
          </a:xfrm>
          <a:prstGeom prst="line">
            <a:avLst/>
          </a:prstGeom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83808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trategic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295280"/>
            <a:ext cx="8675640" cy="49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na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ff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o ensure an uncomplicated business-experience with the aim to provide a mutually beneficial business result/outcome for all involved, we need to achie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ancial independence of every business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increased market sh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turnover of …………………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profit margin of  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financial capacity to handle orders of up to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monitor more closely, the performance of our business partn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reduce margin slippage on project to 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increase our invoicable consulting hours to 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lanced Scorecard of:                            For the Period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___________ to 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762120"/>
            <a:ext cx="3581640" cy="0"/>
          </a:xfrm>
          <a:prstGeom prst="line">
            <a:avLst/>
          </a:prstGeom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83808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trategic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1295280"/>
            <a:ext cx="8532720" cy="47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earning and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ff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o offer technical services/total engineering solutions to manufacturing industries, we ne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rove our Project-handling exper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rove our capacity to offer total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rove our ability to be flexible and uncompl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fine project-repor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define and apply our competitive 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lanced Scorecard of:                            For the Period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___________ to 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762120"/>
            <a:ext cx="3581640" cy="0"/>
          </a:xfrm>
          <a:prstGeom prst="line">
            <a:avLst/>
          </a:prstGeom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83808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trategic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1628640"/>
            <a:ext cx="806436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ff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o be open to networking and partnering with our international counterparts, with a view to strengthen and develop long term viable, customer-relationships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engthening our reputation for quality and on-tim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taining a strong supplier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ilding even better relations with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engthening our marketing presence and company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engthening our brand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roadening our market-base (dif. Seg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ff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lanced Scorecard of:                            For the Period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___________ to 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762120"/>
            <a:ext cx="3581640" cy="0"/>
          </a:xfrm>
          <a:prstGeom prst="line">
            <a:avLst/>
          </a:prstGeom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83808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trategic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5640" y="1628640"/>
            <a:ext cx="800748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nal Business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order to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ntinually develop our existing exceptional competence in both engineering and project-delivery we hav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a best-practice way of planning, monitoring and evaluating the project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cost-effective purchasing rout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a strategic management process which includes every staff member within Epsilon I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ntinuously work smarter, faster and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08:57:36Z</dcterms:created>
  <dc:creator>Salome</dc:creator>
  <dc:description/>
  <dc:language>en-US</dc:language>
  <cp:lastModifiedBy>Salome</cp:lastModifiedBy>
  <dcterms:modified xsi:type="dcterms:W3CDTF">2007-09-13T09:15:16Z</dcterms:modified>
  <cp:revision>6</cp:revision>
  <dc:subject/>
  <dc:title>Tentative Strategic BSC for Epsilon IK</dc:title>
</cp:coreProperties>
</file>