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CHIMES.WAV" ContentType="audio/x-wav"/>
  <Override PartName="/ppt/media/image6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D9B-B6BC-434E-936D-1A564A2A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EC3-F9E3-4DA1-A5C8-3A99E9D5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82F-5D54-48FB-8E4F-A2180529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327-B1D1-4847-9989-C12356C3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7EF-4E4C-478B-AC83-AACDDCF1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9C8-E1A8-4E17-8BB3-D531A120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9AE-40A1-4C8A-9319-DC03A060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E0D-B566-4B4E-8329-096BD113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BE9-F401-4E6B-A69A-C0AFD0FA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A0B-C4E9-4E15-96A8-5E274AB1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2C1-8439-48BC-8BC9-16EB84B1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E62-1DBB-47BB-9E7B-756D88F5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7407-8809-48E3-9A1C-7E48A47B0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41672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your business geared for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ching for cultural renew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ed cultural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67564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Strategy implementa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s of organisational cul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286000"/>
            <a:ext cx="562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guidelines for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ds peopl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people to 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a sense of belo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the unwritte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the strategy of th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s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400800" y="2610000"/>
            <a:ext cx="274320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3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3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3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3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3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3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3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456840"/>
            <a:ext cx="8496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company culture agr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057400"/>
            <a:ext cx="44193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r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743200"/>
            <a:ext cx="2571840" cy="838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ture Values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648320"/>
            <a:ext cx="380988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5589720"/>
            <a:ext cx="2808360" cy="887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Values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2971080" y="3733560"/>
            <a:ext cx="289584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trategy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148360" y="4149720"/>
            <a:ext cx="3311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ay of doing busines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4000" y="2565360"/>
            <a:ext cx="280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akeholder feedback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ransforms a company’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cul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74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nd Leadership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y History and Tra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of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ystems and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 and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and Rewar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ation of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s, values and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le leaders play in transforming org.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78400" y="2292480"/>
            <a:ext cx="3308400" cy="3139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40957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 Pat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owe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perceived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571500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rrent Culture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553080" y="190512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ture Culture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5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5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90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3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628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agreeing an Organisation’s culture a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27480" y="215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5734080"/>
            <a:ext cx="6480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ING EXISTING AND PREFERRED CUL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8000" y="5013360"/>
            <a:ext cx="568836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ING A PREFERRED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4149720"/>
            <a:ext cx="5185080" cy="863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ING CORE VALUE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 PREFERRED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0200" y="359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3284640"/>
            <a:ext cx="460872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ING ON THE BEHAVIOUR 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STITUTES TH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2421000"/>
            <a:ext cx="381636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CHING/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628640"/>
            <a:ext cx="3095640" cy="792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MEN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96360" y="20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59636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596360" y="45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9636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04360" y="170028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59636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96360" y="184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8360" y="1844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404640"/>
            <a:ext cx="3673440" cy="1922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GLOB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5120" y="2847960"/>
            <a:ext cx="1412280" cy="1008720"/>
          </a:xfrm>
          <a:prstGeom prst="rect">
            <a:avLst/>
          </a:prstGeom>
          <a:solidFill>
            <a:srgbClr val="d3d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2852640"/>
            <a:ext cx="1584360" cy="1008720"/>
          </a:xfrm>
          <a:prstGeom prst="rect">
            <a:avLst/>
          </a:prstGeom>
          <a:solidFill>
            <a:srgbClr val="d3d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R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5400" y="2852640"/>
            <a:ext cx="1542960" cy="1008720"/>
          </a:xfrm>
          <a:prstGeom prst="rect">
            <a:avLst/>
          </a:prstGeom>
          <a:solidFill>
            <a:srgbClr val="d3d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Arial"/>
              </a:rPr>
              <a:t>PLUGGING       SKILL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349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745160"/>
            <a:ext cx="1800360" cy="1313640"/>
          </a:xfrm>
          <a:prstGeom prst="rect">
            <a:avLst/>
          </a:prstGeom>
          <a:solidFill>
            <a:srgbClr val="23a8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COAL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797360"/>
            <a:ext cx="2519640" cy="1008720"/>
          </a:xfrm>
          <a:prstGeom prst="rect">
            <a:avLst/>
          </a:prstGeom>
          <a:solidFill>
            <a:srgbClr val="23a8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CRE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4869000"/>
            <a:ext cx="2449440" cy="1008720"/>
          </a:xfrm>
          <a:prstGeom prst="rect">
            <a:avLst/>
          </a:prstGeom>
          <a:solidFill>
            <a:srgbClr val="23a8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0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38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38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8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402920" y="1773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1773360"/>
            <a:ext cx="1295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5244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oz and Hamel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.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583272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 to optimi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284640"/>
            <a:ext cx="1944720" cy="15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3635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3284640"/>
            <a:ext cx="251964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24360" y="3684600"/>
            <a:ext cx="7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3645000"/>
            <a:ext cx="2737080" cy="825480"/>
          </a:xfrm>
          <a:prstGeom prst="rect">
            <a:avLst/>
          </a:prstGeom>
          <a:solidFill>
            <a:srgbClr val="23a8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75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ching as a tool to align people’s thinking regarding culture/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a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lp adults manage change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ongo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icit core values and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onsor future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 collaboration and consensus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 from what is possible, using imagination, vision and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ide clients toward highe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ate professional and organizational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ivate, seek results, explore new directions, inno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e networking through linkages with common go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Arial"/>
              </a:rPr>
              <a:t>Frederik M. Hu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5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20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20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as a tool to reinforce culture a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is the vehicle through wh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behaviours can be taught, so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f the needed behaviours (ways of doing business) can permeate throughout the company faster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 preferred cultures could be created soon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business results is always the key outcom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3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0" dur="3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3" dur="3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3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1" dur="3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5960" y="2130120"/>
            <a:ext cx="7448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YOUR BUSINESS GEARED FOR SUCCESS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rganisational cul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356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ment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oriented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78400" y="2292480"/>
            <a:ext cx="33084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OBAL TRENDS AND BEST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ACTICES IN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ROJE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3581280"/>
            <a:ext cx="6821280" cy="2895840"/>
          </a:xfrm>
          <a:prstGeom prst="flowChartExtra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APPLYING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PROJECT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TO MANAGING THE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OF YOU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trends in Project Mg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915920"/>
            <a:ext cx="70977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signing a Project Organi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signing a Project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veloping Project Management Compe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sing Projects as Vehicles for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lobal trends in Project Mg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stablishing PM-techniques and controls throughout the organi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suring that Projects support your Busines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icking off in the right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-validating the viability of the project throughout it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osing and handing-over proced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elebrating successful project deli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the Project Organ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ing particular resource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project work to be carried out satisfactor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 the project milestones and objectives success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priorities are set and 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all functions/activities into pro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cost items are linked to a specific project-budg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0"/>
          <a:ext cx="9144000" cy="6840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0040" y="519120"/>
            <a:ext cx="881388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7000" y="685800"/>
            <a:ext cx="851832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920" y="608040"/>
            <a:ext cx="88153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6360" y="830160"/>
            <a:ext cx="8501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201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your business align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your customer’s needs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your market demands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lignment betw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business area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should do business and how you are doing business now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you aligned with your busi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68200" y="263520"/>
            <a:ext cx="847116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6040" y="133200"/>
            <a:ext cx="87156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5040360"/>
          </a:xfrm>
          <a:prstGeom prst="rect">
            <a:avLst/>
          </a:prstGeom>
          <a:solidFill>
            <a:srgbClr val="f1f55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pts of alignment, strategy, culture an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create a working 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business strategy decided and implem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ing forces behin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onal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to glob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nd techniques used worldwide, right now, to achieve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s in Scandinavia – culture and values -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0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609480"/>
            <a:ext cx="7848720" cy="6248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1905120"/>
            <a:ext cx="5105520" cy="358128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066680"/>
            <a:ext cx="14144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ON (dre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2004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urp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5486400"/>
            <a:ext cx="24382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uide behavi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3089160"/>
            <a:ext cx="380880" cy="222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971800"/>
            <a:ext cx="457200" cy="222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2857320" y="4381560"/>
            <a:ext cx="19810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imat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4686120" y="4228920"/>
            <a:ext cx="198108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imat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916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6483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reate a working 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ne balance between the powers of intellect and the power of human will in organisations, with the powers of intuition and c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 should have one hand on strategy (what business we do) and one hand on the culture and values (how we do busi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3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business strategy deci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057400"/>
            <a:ext cx="44193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743200"/>
            <a:ext cx="1752840" cy="8380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648320"/>
            <a:ext cx="380988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5562720"/>
            <a:ext cx="1904760" cy="9144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34290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takeholder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486400" y="4114800"/>
            <a:ext cx="1981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alu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 rot="5400000">
            <a:off x="2971080" y="3733560"/>
            <a:ext cx="289584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Strategy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iving Forces behind an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 offered: Primary versus Second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Needs: Potential custom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: Ensuring quality, creativity, solutions tha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Capability: Primary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3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3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3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iving Forces behind any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of Sa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, structures, reward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of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ies/acce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and future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and Return on Inves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marg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3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3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3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3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3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3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3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9:01:56Z</dcterms:created>
  <dc:creator>Salome</dc:creator>
  <dc:description/>
  <dc:language>en-US</dc:language>
  <cp:lastModifiedBy>Salome</cp:lastModifiedBy>
  <dcterms:modified xsi:type="dcterms:W3CDTF">2007-07-12T11:15:57Z</dcterms:modified>
  <cp:revision>35</cp:revision>
  <dc:subject/>
  <dc:title>Do you have the right Culture to make your Vision come true?</dc:title>
</cp:coreProperties>
</file>